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D95-2A15-4612-AC56-9EA37831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600-E8E4-444F-BC83-C7C3A4D0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AAA-7911-4748-87B8-647E5DE4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E8E-C372-42E4-82E2-0F5319DD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011-3E96-4B5A-AA2C-3425A729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789-F9A8-4FC8-A7B6-BA523533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A2A-A618-4EB0-B5C4-ED0A21ED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867-D4AA-40F7-95A8-8C7039A7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FF6-7549-4E12-A1B1-6E40A1AA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B64-400C-4D03-A164-1DE670E1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D47-4E42-41A8-8A38-CE2CA7F7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D60-0CD0-416E-A0B5-F73E008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5C90-67A0-4673-9FE3-A369DA89D6E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Classifying Indus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4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y can be classified using a four-way division (Primary, Secondary, Tertiary, Quaternary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, the percentage of the population of a country working in these different sectors of industry will change as the country develo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imary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industries are classified as those which produce the raw materials for indus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 mining, quarrying, farming, fishing and forestry, all of which produce raw materials that can be processed in to a finished produ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in these industries are described as being in the primary s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the manufacturing and assembly indust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ake raw materials and manufacture finished products from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 steel manufacture, bread making and food process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in these industries are described as being in the secondary se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ertiary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Otherwise known 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 industries, and are the area of most growth in the United Kingdo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 doctors, teachers, lawyers, estate agents, travel agents, accountants and policem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in these industries are described as being in the tertiary se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Quaternary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the newest, most hi-tech sector of indus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the research and development indust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 the development of new computer components and research into GM crop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in these industries are described as being in the quaternary se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3:15:03Z</dcterms:created>
  <dc:creator>Dell_02</dc:creator>
  <dc:description/>
  <dc:language>en-US</dc:language>
  <cp:lastModifiedBy>Dell_02</cp:lastModifiedBy>
  <dcterms:modified xsi:type="dcterms:W3CDTF">2011-01-27T03:20:57Z</dcterms:modified>
  <cp:revision>1</cp:revision>
  <dc:subject/>
  <dc:title>Classifying Industry</dc:title>
</cp:coreProperties>
</file>